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183-4843-4ABB-B4A9-C03EB7EA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BE5-F2DE-43F1-B6FB-D84AD480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DEA5B-F0E3-423F-929A-6AE4E8B7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8F971-FC8F-4099-8EFE-C3FBA628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18BA3-64C9-478F-8BBD-33DA9AFF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F46F5-E3D7-4B31-88FE-744CF07D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E32A8-5CFF-4EE1-915F-C7CDE99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873DD-B132-4F76-9CE8-95E6B18B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65BBE-D178-4586-BB7E-D00DD920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7BF56-85C4-4705-9BBC-AEFF0840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27666-DDB7-4495-9D9E-D3DD314D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1ED94-8D01-4C1F-B1F8-F07D06FC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2ED-B793-4B1F-BB1F-BCC0A000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7025A-F6D3-4E31-8AF6-7F1EAF9C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EFECD-09F8-4608-8307-1B136795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926D1-103D-4F53-919E-B7E16268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EF519-ECB0-4FC1-B742-B7A1156D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9B3A5-E8A5-44E1-9903-36CABA13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D8256-44BE-4546-82AC-EB6E2EAA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A33EE-B306-4621-985B-E3C1DF76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2752E-2E42-4D8E-9B1A-62752618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E1C19-F0B4-42B8-BEAB-734D5289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A3232-709E-46EF-9EE4-FC67378E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EB1-AB22-4F1A-8968-0B235354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6C407-1287-4026-BEBC-4DC1FF11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190EF-D5B1-4DDB-BE0D-C379B369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76E7E-D42A-42C7-B19B-4B7A9AF1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30ED0-3838-46D3-9D8F-1559B651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F67BA-0D1A-4DFE-AF2F-E4C713C2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987A2-8BC0-4EF1-9D94-CB0510F9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012BE-A921-449C-976D-8ECB6720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A00B4-4F3A-499D-B4DE-B714679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B2C01-90AC-4566-BB15-56A16075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00B74-9CFB-476B-ABDB-B342787C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E501-F7C4-4E76-9831-8B95B31D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DCA5D-B4F4-4A91-A7F8-29324C1F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5C1BA-94B7-4502-8BDE-449A7003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525D2-C5A4-45A8-8627-C1C6AF4A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926D9-F1E1-4CDC-8EAB-AF282050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2F6FD-E363-4E36-BBE1-C07617C9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B936F-CBBA-4D13-8DE7-35DF885E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DBAE8-43CD-4CE0-B64C-A2922730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ED9A0-63DE-46F2-8383-423071CD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4B97F-ED72-4DE5-97F9-19DC7A6C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5CC8C-F66E-46AD-9EFD-ABA8C014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845F-CF46-4A44-BA13-4D4C3D6F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71F4A-788D-4776-B85C-0BDC6BC7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B20DE-7D33-4E22-936B-287554C1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010AF-0559-4066-847B-603BACD3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D7456-12BD-4220-ABF1-1FFF09A2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6121A-3A55-499A-86A4-B68B4C71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C528E-3FF3-4421-B863-F9621255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026EE-956A-4523-A9FE-3430371E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FACD5-E8EF-4F7D-97AC-191A9827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E254E-97AA-4064-8983-F9986950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23611-67B7-439B-AEFE-67677D55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EBA8-EB07-4E30-926C-9C5A9E5B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3399C-EA37-4CEA-8139-6F836CCD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FDB14-1CD6-4F01-8AEA-165691DF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C53C0-8370-4A0F-98EE-037A6C13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16C39-90D5-4A2E-A982-92AB7FC2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1E086-24E4-4824-8F11-5D3C8E3A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36DD1-DE6C-4B18-8EB2-B8661FD8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8BA05-9BA1-44BC-BCDB-337C91B7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3FF20-0009-49E6-9003-7F72E6B1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F33EC-C4DE-4849-A817-20218088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E8534-BAA0-436E-AC2C-069E9066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FEE4-B50B-4D3D-81C2-DF480DB7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AA067-BC62-41D2-A07B-F19DD5D8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67A0D-EA68-40ED-BD9F-4F564D50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CA0D0-043A-4303-B7C0-89455ED3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4F1D0-8478-41B0-ADD8-2D7D3F10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31E4C-B092-40BF-A7C3-030C8B70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8545E-A207-4738-8C8D-16021688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2CDDC-014B-44AB-856E-058B65C9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B3151-53BB-45A2-ACF6-54C5E7B5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99459-3255-460A-B87B-5AEBD5CC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99992-63C5-4F10-86F8-E8E208A2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F098-3655-4A1B-BA41-4E061A56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982FC-B680-40E2-AD84-582C6734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DCCFC-0451-46DE-AEBA-539438DF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F078B9-A122-4938-9AFB-6ABB0230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2F35A-7D16-49D4-B778-A63B0571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C326C-BF4A-40B2-8556-8D2577D1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82002-73AE-4EED-B4F3-9A68422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B67FF-7B26-41CB-96D1-F6EED77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17DAC-1C7E-420E-A80E-AF2F6044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FDDAF-F4D1-4839-A69A-BFF73739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A9978-3F03-4CFA-B55A-87409989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E53F-6CBE-4E78-BFB5-5BD23180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07A1B-D9F9-4EED-A94B-E54B3092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5FE5-78DF-480E-AB7F-9AEA044E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2A5-B7EC-48F4-BD3E-58CCF225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FDF3-6716-4FD9-82B1-B85E5005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6822-1A31-472A-8989-439CF8CB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77D2-A45C-42C3-9086-3B149176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9F92-B7F1-4F69-B785-079E5641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1E48-0C46-4722-AC3A-BC4DE42B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AA34-3EE6-47BD-A226-637BB96B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39E52-5330-4D8F-A566-00FEE72D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5F0D-FE33-439F-BC06-3D97D6AE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0ED1-0041-44DA-97BE-0AE346DA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F15A-4785-4EFF-8B19-A7452C47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43D-89C4-45E2-9787-737B1FBB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06FF-C335-4FFA-8E56-CD2DE2B8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1F6CA-1E21-4EF3-9B58-C47CC717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746B5-841F-4F7B-86C1-F398DFEE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890BD-1CA8-459D-A37A-AA8A2DB7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E1D16-2A20-4B29-A5B5-F4D93BA1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32CEA-FBAD-4102-974C-37F1374E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327E0-E533-4C83-ADA1-11329CF9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93092-8C38-4F9A-9F39-83A3C64A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4E611-4B25-4E8E-9BCA-E8BEE43D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1433A-D45E-49E4-AB0F-CE23A0A1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C52-61E1-4E65-A42C-1DF86E96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2B99E-667C-43C5-9133-2B0D298D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9FF8E-12CB-4DC6-80D5-45B4AE39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A9904-07D3-4976-A2E5-B1F3769E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A29F-49DF-4D70-A288-C01679F8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47D8B-81C3-4DF0-89A3-9AB13D48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3A19D-0269-49B8-AFFC-BA2BC26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87309-E35A-45F6-8095-E21ADD9D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9E84A-AA6B-430C-A28E-C73F1CDA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AA603-6BC9-45DF-ACDC-D0E70B64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E6D2F-B45E-4CB6-8D42-1CABD783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847-BABE-4118-95C8-C1785A1C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06029-2908-4E4D-AA50-FFDEBDAF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EA3F-B0F1-4908-9911-C423658E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43674-4457-4C72-93B6-6B4CC9F1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C132E-13D9-4348-85F5-C4A5DC4F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F5017-974A-4B28-9BAB-7620BBBA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58059-3B86-4458-8C7D-A4DD2CD8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53F1E-87A3-425F-ABF4-9CD8E329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EF305-5086-4CF5-995D-9563F9DE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C7ACF-8048-49DB-A78D-17CD0673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5D628-378E-4BCB-8E94-65CFCCAE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459-6E53-4F7C-8067-FC48AE30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5F41-8370-4202-99E7-5A590FDF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F3719-9853-4F06-9E4E-7AE296F8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3F0C7-4F71-426A-AE82-085A4C74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2FE4E-415F-4126-8FF3-60E90EB6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43CE7-AB4C-4227-B38D-E86F9FAA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88AE2-A3FE-4A0C-9859-8EFEF83E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3B73B-75A8-4524-A200-A5070A24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D8C83-869F-44BE-879A-3451E578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36E6D-CAE4-4019-9215-8DFA0735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0BFB4-34C4-4AAA-A4A0-8E3120E8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2BC-115F-4880-A823-36420537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7295C-B0C1-4858-9260-A2440F57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9B75A-A347-4023-8F93-E297B565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28410-BD98-496B-B3E8-39B54857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9366E-57C0-4E2A-824A-11395264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D8E5E-102C-4593-8F54-0232B95B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43758-A3B5-4A3F-85AD-56A45AFA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B7C95-CCC8-41A0-90C2-113123C7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A0367-4E1B-4B44-9F37-218E3E89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7FC09-885E-4A08-9A21-3BF207B6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727D3-084F-4905-AE99-976287F5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FC8-7853-476A-89D0-EED9C23F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44528-2A8C-47C8-A7DA-CB7C653A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92DAA-ED6F-457C-9A16-BDC5411F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899DF-17B5-4655-8612-A1313F6A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7701C-F651-4D9E-A53D-CEDFC41B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004F4-4713-4D6F-997E-4CD8DCFE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4E5C7-F41D-41A1-878C-D50B2359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5D586-2E14-4525-9984-327292E8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0B447-D83C-473B-8F8A-E4B8D980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9BF3A-F563-404D-A494-731CA4D3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4BD29-D5FE-4611-AFE2-F7A026A7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20E-BC78-4207-AA1B-65504AC5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BE619-A0A5-4006-BDFC-ABAF80DA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38E56-DFDB-4CDC-AE50-2DE6033C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29DCD-5149-48FD-BDA4-75873D10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6AD0E-F34F-4D55-80FC-14DDEB32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64B15-E0EA-492D-B1A5-A15F61A3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79FC6-4760-485E-83A9-0DC14DD9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910AE-11B7-41A5-A0EA-64E2AEC9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D64E8-362B-4B62-A359-85C8184C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8864D-F5AE-4B52-A0B5-B794E772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4F5D5-7EF3-4935-8FE8-9EF17945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7C00-9E30-45D1-B89F-1C3D8961CC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3AB1-4FB0-4CB6-BA54-D6115A32A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25EA-3DCC-4160-AD1E-AABC5FAC7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657F-C8F2-40E8-B84E-8E4E64010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Pancasila%20sebagai%20sistem%20filsafat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juan Mempelajari Pancas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76212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uk mengetahui Pancasila yang benar, yakni yang dapat dipertanggungjawabkan, baik secara yuridis konstitusional maupun secara objektif ilmia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Musawada veramani sikkhapadam samadiyami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anganlah berkata pals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ura-meraya-majja-pamadatthana veramani sikkhapadam samadiyami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angannlah meminum minuman yang menghilangkan pikir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4572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lam kesusteraan Jawa Kuno, pada jaman Majapah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casil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ma das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tilah Pancasila sejak jaman Majapahit (abad XIV) di dalam buku “Nagarakertagama” karangan Prapanca dan buku “Sutasoma” karangan Tant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950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lam buku Negarakertagama dalam sarga 53 bait ke 2 berbunyi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85800" y="295740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tnanggegwani pancasyila  kertasangskarabhisekakakrama”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aja) mennjalankan dengan setia kelima pantangan (Pancasila) itu, begitu pula upacara-upacara ibadat dan penobatan-penobat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lam buku “Sutasoma” istilah Pancasila disamping mempunyai arti berbatu sendi yang kelima (dari bhs Sansekerta), juga mempunyai arti pelaksanaan kesusilaan yang lima (Pancasila Krama)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tidak boleh melakukan kekerasa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tidak boleh mencur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tidak boleh berjiwa dengk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tidak boleh berbohong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tidak boleh mabuk minuman ker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telah Majapahit runtuh dan agama Islam tersebar di seluruh Indonesi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jaran moral Budha masih dikenal dalam masyarakat Jawa sebagai lima larangan (pantangan, wewaler, pamali), isinya: “Ma-lima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teni, maling, madon, madat, m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a larangan moral ini sampai sekarang dalam masyarakat Jawa masih dikenal dan menjadi pedoman moral, tetapi namanya bukan Pancasila, tetap Ma-l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ncasil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ara terminolog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0520" y="18288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tilah Pancasila tgl 1 Juni 1945 digunakan pertama kali oleh Ir. Soekarno yang mengusulkan lima dasar bagi Negara Indones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Kebangsaan Indone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Internasionalisme ata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kemanusia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Mufakat atau Demokra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Kesejahteraan So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Ketuhanan yang berkebuday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45684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belumnya tgl 29 Mei 1945 Mr. Muhammad Yamin secara lisan mengusulkan lima asas dan dasar negara kebangsaan Republik Indonesia, yait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Peri Kebangs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Peri Kemanusi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Peri Ketuhan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Peri Kerakya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Kesejahteraan Raky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ara tertulis M. Yamin mengusulka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Ketuhanan Yang Maha E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Kebangsaan Persatuan Indone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Rasa Kemanusiaan yang adil dan berad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Kerakyatan yang dipimpin oleh hikm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bijaksanaan dalam permusyawarata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wak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Keadilan sosial bagi seluruh rakyat Indone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emudian Ir. Soekarno juga mengemukakan usul alternatifnya, dari lima rumusan diringkas menjadi tiga rumusan yang diberi nama Tri Sila, yaitu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80520" y="21337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bangsaan Indone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asionalisme atau Perikemanusi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fakat atau Demokra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sejahteraan Sos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tuhanan yang berkebuday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Line 4"/>
          <p:cNvSpPr/>
          <p:nvPr/>
        </p:nvSpPr>
        <p:spPr>
          <a:xfrm>
            <a:off x="4267080" y="23623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Line 5"/>
          <p:cNvSpPr/>
          <p:nvPr/>
        </p:nvSpPr>
        <p:spPr>
          <a:xfrm flipV="1">
            <a:off x="5562720" y="274284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Line 6"/>
          <p:cNvSpPr/>
          <p:nvPr/>
        </p:nvSpPr>
        <p:spPr>
          <a:xfrm>
            <a:off x="4419720" y="4038480"/>
            <a:ext cx="1600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Line 7"/>
          <p:cNvSpPr/>
          <p:nvPr/>
        </p:nvSpPr>
        <p:spPr>
          <a:xfrm flipV="1">
            <a:off x="3962520" y="4495320"/>
            <a:ext cx="2286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Line 8"/>
          <p:cNvSpPr/>
          <p:nvPr/>
        </p:nvSpPr>
        <p:spPr>
          <a:xfrm>
            <a:off x="5562720" y="5562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Rectangle 9"/>
          <p:cNvSpPr/>
          <p:nvPr/>
        </p:nvSpPr>
        <p:spPr>
          <a:xfrm>
            <a:off x="6078240" y="243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1. Sosio Nasionalis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Rectangle 10"/>
          <p:cNvSpPr/>
          <p:nvPr/>
        </p:nvSpPr>
        <p:spPr>
          <a:xfrm>
            <a:off x="6156720" y="412920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2. Sosio Demokr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6158520" y="5375160"/>
            <a:ext cx="162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3. Ketuhan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Rectangle 12"/>
          <p:cNvSpPr/>
          <p:nvPr/>
        </p:nvSpPr>
        <p:spPr>
          <a:xfrm>
            <a:off x="380880" y="5889600"/>
            <a:ext cx="8763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Kemudian yang tiga tersebut diusulkan pula diperas lagi menjadi satu disebut Eka Sila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Gotong-Royo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158760"/>
            <a:ext cx="86868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anitia Kecil (Panitia Sembilan) memusyawaratkan dua usulan rumusan dan menghasilkan rumusan Rancangan Mukadimah Hukum Dasar  yang dinamakan Jakarta Charter atau Piagam Jakar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4920" y="21337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am Piagam Jakarta rumusan Pancasila sebagai beriku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Ketuhanan dengan kewajiban menjalankan syari’at Islam bagi pemeluk-pemeluk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Kemanusiaan yang adil dan berad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ersatuan Indone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Kerakyatan yang dipimpin oleh hikmat kebijaksanaan dalam permusyawaratan perwak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Keadilan sosial bagi seluruh rakyat Indone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104760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anggal 14 Juli 1945 Piagam Jakarta diterima Rancangan Mukadimah Hukum Dasar oleh BPUPKI dan disahkan sebagai Pembukaan UUD 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520" y="3657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KLAMASI  17  AGUSTUS  19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ara Yuridis Konstitus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3125880"/>
            <a:ext cx="82296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casila sebagai dasar negara yang dipergunakan sebagai dasar mengatur/menyelenggarakan pemerintahan neg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da tanggal 18 Agustus 1945 PPKI mengessahkan Undang-Undang Dasar Negara yaitu UUD 1945 yang terdiri dari dua bagian: Pembukaan dan Batang Tubu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51920" y="22856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musan Pancasila dalam Pembukaan UUD 194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Ketuhanan Yang Maha 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Kemanusiaan yang adil berad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ersatuan Indone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Kerakyatan yang dipimpin oleh hikm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bijaksanaan dalam permusyawaratan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waki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Keadilan sosial bagi seluruh rakyat Indones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AutoShape 4">
            <a:hlinkClick r:id="rId1"/>
          </p:cNvPr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9" name="Picture 5" descr="garuda1"/>
          <p:cNvPicPr/>
          <p:nvPr/>
        </p:nvPicPr>
        <p:blipFill>
          <a:blip r:embed="rId2"/>
          <a:stretch/>
        </p:blipFill>
        <p:spPr>
          <a:xfrm>
            <a:off x="6181560" y="2971800"/>
            <a:ext cx="28101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ara Objektif Ilmi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2744280"/>
            <a:ext cx="822960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casila adalah suatu paham filsafat, suatu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hilosophical way of think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au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hilosophical sys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hingga uraiannya harus logis dan dapat diterima oleh akal se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457200" y="9604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casila sebagai dasar negar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punyai sifat imperatif/memaks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tinya setiap warga negara Indonesia harus tunduk/taat kepada Pancasil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gamalan dan pelaksanaan Pancasila sebagai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eltanschauu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yaitu pelaksanaan Pancasila dalam hidup sehari-hari tidak disertai sanksi hukum, tetapi mempunyai sifat mengika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fat mengikat, artinya setiap manusia Indonesia terikat dalam cita-cita yang terkandung di dalam Pancasila untuk mewujudkan dalam hidup dan kehidupannya, sepanjang tidak melanggar peraturan perundang-undangan yang berla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Pancasila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ecara etimolog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rasal dari bahasa Sansker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da dua macam arti (menurut Muhammad Yamin), yait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nca, artinya “lim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ila, artinya “batu sendi”, “alas”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au “dasar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iila, artinya “peraturan tingka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ku yang penting/baik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ono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ncasil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ara etimolog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2728440"/>
            <a:ext cx="777240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ca-Syil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rbatu sendi yang lima, berdasar yang lima atau lima das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ca-Syiil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ma aturan tingkah laku yang pe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218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ncasil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ara histor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28600" y="251424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wal mula dipergunakan oleh pemeluk agama Budh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casila berarti lima aturan yang harus ditaati dan dilaksanakan oleh para penganut agama Bud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844416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ma aturan atau lima pantangan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natipata veramani sikkhapadam samadiyami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nganlah mencabut nyawa setiap yang hid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dinnadana veramani sikkhapadam samadiyami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anganlah mengambil barang yang tidak diberik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ameshu micchacara veramani skkhapadam samadiyami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anganlah berhubungan kelamin yang tidak sah dengan perempu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6:20:20Z</dcterms:created>
  <dc:creator>INTEL</dc:creator>
  <dc:description/>
  <dc:language>en-US</dc:language>
  <cp:lastModifiedBy>UNY</cp:lastModifiedBy>
  <dcterms:modified xsi:type="dcterms:W3CDTF">2014-04-13T11:48:13Z</dcterms:modified>
  <cp:revision>37</cp:revision>
  <dc:subject/>
  <dc:title>Tujuan Mempelajari Pancasila</dc:title>
</cp:coreProperties>
</file>